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74C-5CCE-4159-A893-A0AF110F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096-E64D-408B-A19E-194AAABC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717-11B1-418E-9107-F5B9F798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62B-0F8D-411F-B060-D40B7C5D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C5B-4825-45E6-A827-05695649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177-6740-4553-B5D3-27494349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400-5C43-4A0A-B36E-1630712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BB0-63F8-4CF5-AB29-5513C6E5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707-2863-44B4-9FC0-9EC8551B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DB6-D379-449C-B0CC-A5E3300F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18E-4AE4-428F-9B09-B1E98846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2EA-003D-4576-AA56-5262643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359-4029-46A8-A428-BB3EAFB5F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248000" cy="458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" y="1484280"/>
            <a:ext cx="40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cc3300"/>
                </a:solidFill>
                <a:latin typeface="Tahoma"/>
              </a:rPr>
              <a:t>Das Update geht nur mit Win 2000 oder XP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9600" y="1557360"/>
            <a:ext cx="489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Prozedur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- Exe-Datei in ein neues Verzeichnis kop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as Gerät anmachen, indem man den Joystick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er mittleren Position reindrückt und gleichzeiti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uf die rote Taste drückt -&gt; Gerät geht in Boot-Mo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- Verbinden des Gerätes mit dem PC über das USB-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indows findet neue Hardw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USB-Treiber install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Updatesoftware starten und entsprechend 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Grafik konfigur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- Start Button in Software drüc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Einstellung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USB-Kabel Nutzung, nur unter Win2000 / XP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est siehe B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19640" y="189000"/>
            <a:ext cx="2705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date SX1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7T21:11:45Z</dcterms:created>
  <dc:creator>Multi</dc:creator>
  <dc:description/>
  <dc:language>en-US</dc:language>
  <cp:lastModifiedBy>Multi</cp:lastModifiedBy>
  <dcterms:modified xsi:type="dcterms:W3CDTF">2004-01-17T21:11:58Z</dcterms:modified>
  <cp:revision>1</cp:revision>
  <dc:subject/>
  <dc:title>Folie 1</dc:title>
</cp:coreProperties>
</file>